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F6316-66DA-488A-9126-E7716EC446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4FF14-1B55-44B3-BA8F-337004FFD0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89529-9CB8-48A1-9ACF-70830D08A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63E8B-BDF7-4E80-9D49-86D6094109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BE6B9-4E1A-400E-9BC4-01F14370F2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F3079-6964-4D23-854B-049B46C14B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15C4D-847C-441B-B7B1-EE5FCE30E6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F20E6-2851-4BCE-AA5B-BE6FC3C791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910D7-D040-4198-A6B6-37484DCA8C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E0AAC-FEE8-4DFC-882F-78CB589396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AD1A0-E117-4A94-99C4-6DA1062F68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ECB3E-B49F-4D26-8676-AB184DE05D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D522-7D21-4EB1-A529-2EABE2EFDC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freedigitalphotos.net/images/Interiors_g380-Empty_Room_With_Gallery_p82136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resources.curriculum.org/secretariat/coplanning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1896-F4FB-45F1-8746-F046EE47EC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Breakout 6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Connecting our Learning with Different Representations of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etails – 36 km rac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5228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markers every twelfth of the route’s total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water stations equally spaced along the way and the last is at the finish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year Rachel and Mark both ran 1/2 of the ro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year Rachel knows she ran 7/12 of the route because she counted the markers and stopped at the seventh ma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ran to the fifth water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kilometres did they run and how much further did they run compared to last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3AB7-6152-4F02-9921-6DCA6B4726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allery Walk Solu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mathematical learning to sh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320F-4FE8-4EC9-ABC6-93267FA62B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MC900057318.WMF"/>
          <p:cNvPicPr/>
          <p:nvPr/>
        </p:nvPicPr>
        <p:blipFill>
          <a:blip r:embed="rId1"/>
          <a:stretch/>
        </p:blipFill>
        <p:spPr>
          <a:xfrm>
            <a:off x="4876920" y="2286000"/>
            <a:ext cx="2663640" cy="36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ainstorm at your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thematics did we engage in as we solved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trategies surfaced in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solutions lead to emergent thinking about multiplication and division of fr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325C-E584-439A-BE10-2CFB46618C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 Ques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a number line an effective model for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models did you notice in the gallery wal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94DF-F3B3-495D-9AFC-1743BD31E8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 Questions con’t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engage students in a contextual problem that leads to multiplicative thinking as related to fractions and to considering division of fractions prior to teaching algorithms for these operatio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or why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9797-4079-4729-A6C7-2CEDC5E83C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dden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1EDB-1AB3-4209-99FB-07597E46A2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3616200" y="838080"/>
            <a:ext cx="5527800" cy="601992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609480" y="16765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 from Cath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dden Slide – Possible Strateg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64DB-F163-4265-AE01-E5DF431900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1600200"/>
            <a:ext cx="91566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dden Slide – Possible Strateg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FAEC-56C6-4C09-B73A-9314051EE2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66600" y="1676520"/>
            <a:ext cx="9077400" cy="48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dden Slide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CDA7-3090-4D1F-8202-3AD10928DD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874800"/>
            <a:ext cx="9144000" cy="59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dden Slide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D0B6-0873-4C27-AA61-C32DC91CF2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1371600"/>
            <a:ext cx="3867120" cy="3429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3903840" y="304920"/>
            <a:ext cx="524016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irthday Budd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 the people who have the same birthday month as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t into p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up a 0 – 4 number line and som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C20C-8D6E-4C4E-B86A-7929899DE2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AF07-F651-4222-80B9-02A3B65A2F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Ordering and Comparing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er the following fractions on your number l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2,   3/4,   5/6,   3 3/4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/4,   16/4,   15/5,    3 3/3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6,   1 1/2,   1 5/10,   2/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FF60-8678-458C-AC7F-A1C08C94A5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allery Walk / 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7D7F-1843-4DA9-9531-AE9E324CFE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http://c95711.r11.cf3.rackcdn.com/Gallery_The_picture_blue_w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1523880"/>
            <a:ext cx="5410080" cy="35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 Preview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3712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at ways does the problem unpack key understandings about fra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at ways does the problem allow ALL students  (including those with specific LDs) access to the mathematic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notice about the teacher’s questio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notice about student representations and dialog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D4DD-A575-4454-8878-D43BBA4FDB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MH900434799.JPG"/>
          <p:cNvPicPr/>
          <p:nvPr/>
        </p:nvPicPr>
        <p:blipFill>
          <a:blip r:embed="rId1"/>
          <a:stretch/>
        </p:blipFill>
        <p:spPr>
          <a:xfrm>
            <a:off x="4343400" y="1676520"/>
            <a:ext cx="3962520" cy="396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NS The Three Part Lesson in Mathematics; Supporting Studen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2 D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3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esources.curriculum.org/secretariat/coplannin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In The Classroo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C60E-BC0A-47CB-B0E7-6A24BF82A5D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3712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at ways does the problem unpack key understandings about fra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at ways does the problem allow ALL students  (including those with specific LDs) access to the mathematic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notice about the teacher’s questio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notice about student representations and dialog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1F6C-5AE0-47F4-A7B8-7668E26E5A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unning for Fun</a:t>
            </a:r>
            <a:br>
              <a:rPr sz="4400"/>
            </a:br>
            <a:r>
              <a:rPr b="0" lang="en-US" sz="2400" spc="-1" strike="noStrike">
                <a:solidFill>
                  <a:srgbClr val="2b5ca9"/>
                </a:solidFill>
                <a:latin typeface="Arial"/>
              </a:rPr>
              <a:t>Cathy Fosnot; </a:t>
            </a:r>
            <a:r>
              <a:rPr b="0" i="1" lang="en-US" sz="2400" spc="-1" strike="noStrike">
                <a:solidFill>
                  <a:srgbClr val="2b5ca9"/>
                </a:solidFill>
                <a:latin typeface="Arial"/>
              </a:rPr>
              <a:t>Contexts for Learning Mathematics</a:t>
            </a:r>
            <a:endParaRPr b="0" lang="en-US" sz="2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story problem to th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567B-6FF9-47C6-ABF1-606F191BAB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MP900424397.JPG"/>
          <p:cNvPicPr/>
          <p:nvPr/>
        </p:nvPicPr>
        <p:blipFill>
          <a:blip r:embed="rId1"/>
          <a:stretch/>
        </p:blipFill>
        <p:spPr>
          <a:xfrm>
            <a:off x="3429000" y="2362320"/>
            <a:ext cx="4915080" cy="32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etails – 26 mile rac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228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markers every twelfth of the route’s total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water stations equally spaced along the way and the last is at the finish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year Rachel and Mark both ran 1/2 of the ro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year Rachel knows she ran 7/12 of the route because she counted the markers and stopped at the seventh ma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ran to the fifth water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miles did they run and how much further did they run compared to last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B210-32BF-46ED-A61B-D0AACA93C5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11:34:06Z</dcterms:created>
  <dc:creator>CSC</dc:creator>
  <dc:description/>
  <dc:language>en-US</dc:language>
  <cp:lastModifiedBy>Kathy Kubota-Zarivnij</cp:lastModifiedBy>
  <dcterms:modified xsi:type="dcterms:W3CDTF">2012-07-26T11:55:32Z</dcterms:modified>
  <cp:revision>40</cp:revision>
  <dc:subject/>
  <dc:title>&lt;Title&gt;</dc:title>
</cp:coreProperties>
</file>